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CBD-1632-4377-A770-FBFF1A1B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C5A-8A13-4475-B584-6C7B0559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090-4396-43E6-95FB-D6CC153C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047-F7D8-4E32-9EEB-7F377BDD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B53-7568-4C4E-A820-F8BCEACB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31D-E944-4156-8D5F-06D42AE5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806-A94C-4341-B354-B4CFD2E7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7AB-7467-4CA9-A607-95538B17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A60-4D2D-4ABF-98F6-920CB78E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6DE-2D1A-4EC0-AB68-9A346C59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C29-C994-449B-9DB9-F5F59391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5F9-957E-4E5F-8199-E5FEAB69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7165-E8FE-4B7E-A07F-70F3F52A7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upiter_Smyrna_Louvre_Ma13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upiter_Smyrna_Louvre_Ma1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amphalfbloodgossip.yolasite.com/olympus-chatroom.php" TargetMode="External"/><Relationship Id="rId2" Type="http://schemas.openxmlformats.org/officeDocument/2006/relationships/hyperlink" Target="http://en.wikipedia.org/wiki/Zeus" TargetMode="External"/><Relationship Id="rId3" Type="http://schemas.openxmlformats.org/officeDocument/2006/relationships/hyperlink" Target="http://www.dreamstime.com/aphrodite-goddess-of-love-thumb4082974.jpg" TargetMode="External"/><Relationship Id="rId4" Type="http://schemas.openxmlformats.org/officeDocument/2006/relationships/hyperlink" Target="http://wwwis.win.tue.nl/~hera/hera.png" TargetMode="External"/><Relationship Id="rId5" Type="http://schemas.openxmlformats.org/officeDocument/2006/relationships/hyperlink" Target="http://www.beazley.ox.ac.uk/dictionary/Dict/image/aresLIMC.jpg" TargetMode="External"/><Relationship Id="rId6" Type="http://schemas.openxmlformats.org/officeDocument/2006/relationships/hyperlink" Target="http://4.bp.blogspot.com/_FOIrYyQawGI/S1IorJk3oXI/AAAAAAAACiw/uZgBIEZ6HMA/s1600/Athena.jpg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ympic G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members: Clayton Donal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sabella Corv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: 12/15/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room: 6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57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The Greeks believed that most gods lived on Mount Olympus located in Northern Gree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They believed they were very much like huma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The gods had special pow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The Greek honored their gods and goddesses in many way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Every four years, the Greeks held an athlete contest to honor Zeus, the kind of Go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ympics Go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us, king of g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a, life of Zeus protector of families, children, and the h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s, god of w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hena, goddess of wis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llo, god of truth, intelligence, music, and poe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eidon, god of the sea and Zeus’ br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hrodite, the goddess of love and beau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, The God of good luck and weal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es, god of the under world and Zeus’ second br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The Jupiter de Smyrne, discovered in Smyrna in 1680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676520"/>
            <a:ext cx="771480" cy="16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505320" y="4800600"/>
            <a:ext cx="1261800" cy="143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553080" y="1905120"/>
            <a:ext cx="319320" cy="38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248520" y="2514600"/>
            <a:ext cx="119844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620120" y="4800600"/>
            <a:ext cx="1295280" cy="14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248520" y="4724280"/>
            <a:ext cx="1218960" cy="1500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4884840" y="4800600"/>
            <a:ext cx="1181160" cy="1419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1828800" y="4724280"/>
            <a:ext cx="1312920" cy="1479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80880" y="4876920"/>
            <a:ext cx="965160" cy="12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6324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6400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632448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6400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6324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4267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Zeu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Zeus in Greek mythology is the king of gods, who oversaw the unive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e is the ruler of Mount Olymp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e is also the god of the sky and thu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e is the father of all g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The Jupiter de Smyrne, discovered in Smyrna in 1680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91320" y="2514600"/>
            <a:ext cx="1940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rodit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hrodite is the goddess of love and beau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hrodite’s parents are Zeus and D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 husband was Hephaes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rises from the foam of the s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was the most beautiful of them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18576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mphalfbloodgossip.yolasite.com/olympus-chatroom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Ze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reamstime.com/aphrodite-goddess-of-love-thumb408297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is.win.tue.nl/~hera/hera.pn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eazley.ox.ac.uk/dictionary/Dict/image/aresLIMC.jp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4.bp.blogspot.com/_FOIrYyQawGI/S1IorJk3oXI/AAAAAAAACiw/uZgBIEZ6HMA/s1600/Athena.jp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linsdomain.com/gods&amp;goddesses/pictures/apollo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taxdollars.ocregister.com/files/2009/11/poseidon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uky.edu/AS/Classics/210/sculpture/hermes_face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upload.wikimedia.org/wikipedia/commons/3/38/Hades_Altemps_Inv8584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8:00:53Z</dcterms:created>
  <dc:creator>Administrator</dc:creator>
  <dc:description/>
  <dc:language>en-US</dc:language>
  <cp:lastModifiedBy>Administrator</cp:lastModifiedBy>
  <dcterms:modified xsi:type="dcterms:W3CDTF">2010-12-17T18:12:11Z</dcterms:modified>
  <cp:revision>4</cp:revision>
  <dc:subject/>
  <dc:title>Olympic Gods</dc:title>
</cp:coreProperties>
</file>